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move the slide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DCD-3CD7-4169-A91C-E0115DFC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9764-5115-423F-9D7F-E7059815C4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E24-E787-44F4-9AB1-CAB3B6ED6E6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E772-9EED-4C35-A50B-66AD5D33CDF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4EE-16FC-4708-BC50-3FBF98F2F37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FB1E-5C33-49B2-8BA2-E6444B051DD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A46-0828-4CAC-BFFF-F7D37D05C80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386D-0041-4E16-A2A6-0A146D25D2D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lease refer to the ANA Talking Points regarding the Nurse Interstate Licensure Compact, available on the AMA websit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://www.nursingworld.org/Login.aspx?ReturnUrl=%2fMainMenuCategories%2fANAPoliticalPower%2fState%2fIssuesResources%2fLicensureCompact.asp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8825-283A-4B33-BB8B-CAC708DA156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B0B-AD0D-4FBA-9EFF-3AF32271316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certification program should be nationally accredited by the American Board of Nursing Specialities (ABNS) or the National Commission for Certifying Agencies (NCCA)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ED82-1F8C-448A-B5F1-5107DEC46E6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6D0-1AC0-4C54-898C-C75B7FFBD9A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80D-C9AB-4153-95B6-F5FE19FEF86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ograms must be accredited by a nursing accrediting organization that is recognized by the US Department of Education and/or the Commission on Collegiate Nursing Education (CHEA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06B5-9B12-4325-B603-E74A9DBA8D8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1CFD-1593-4FB2-9FBE-C5536525BE1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46B-4DF2-4947-BF4F-320D9847637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628-36A4-4D30-80A6-3EE6825DE38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threat of elimination of the CNS role and education programs was particularly important in driving development of the model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7A7-BC4A-40D1-A090-346119EC65E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 those interested in more details on the history , the work of the NCSBN APRN Committee, the APRN Consensus Group, and the APRN Joint Dialogue Group are all described on pages 16 through 19 of the repor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A6C0-28D1-47FE-8F9E-7076EB4FCA5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APRN Consensus Model Toolkit on the ANA web site includes articles from ANA publications describing ANA’s role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EE93-C9E9-46F8-B3B5-3488F8F5AB9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183B-A995-40C1-92E3-CE607ED05E8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042-45E4-41C8-BAF8-B30972F16AE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defining factor for all APRNs is that a significant component of the education and practice focuses on direct care of individuals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135-C667-483A-8FC1-22DE75152C9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finitions of each role are included on pages 7 to 8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89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71160" y="1639800"/>
            <a:ext cx="10464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11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271160" y="503064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92520" indent="-92520" algn="ctr">
              <a:buClr>
                <a:srgbClr val="000057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92520" indent="-92520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92520" indent="-92520" algn="ctr">
              <a:buClr>
                <a:srgbClr val="a7aaab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92520" indent="-92520" algn="ctr">
              <a:buClr>
                <a:srgbClr val="a7aaab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39" name="Line 3"/>
          <p:cNvSpPr/>
          <p:nvPr/>
        </p:nvSpPr>
        <p:spPr>
          <a:xfrm>
            <a:off x="1079640" y="4862520"/>
            <a:ext cx="10818720" cy="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7116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1" marL="1115640" indent="-49680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2" marL="150264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3" marL="1889280" indent="-49716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4" marL="2275920" indent="-4957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5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  <a:p>
            <a:pPr lvl="6" marL="2275920" indent="-4957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43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57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470480" y="2757600"/>
            <a:ext cx="7277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8400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Click to edit the outline text format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1" marL="1084320" indent="-4438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con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2" marL="1485720" indent="-44568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Third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3" marL="18828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our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4" marL="2284200" indent="-442800"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Fif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5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ix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  <a:p>
            <a:pPr lvl="6" marL="2284200" indent="-442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57"/>
                </a:solidFill>
                <a:latin typeface="Gill Sans"/>
              </a:rPr>
              <a:t>Seventh Outline Level</a:t>
            </a:r>
            <a:endParaRPr b="0" lang="en-US" sz="3100" spc="-1" strike="noStrike">
              <a:solidFill>
                <a:srgbClr val="000057"/>
              </a:solidFill>
              <a:latin typeface="Gill San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5321160" y="8853480"/>
            <a:ext cx="23623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ursingworld.org/EspeciallyForYou/AdvancedPracticeNurses/Consensus-Model-Toolkit.aspx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Lisa.Summers@ana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676520"/>
            <a:ext cx="1224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57"/>
                </a:solidFill>
                <a:latin typeface="Gill Sans"/>
              </a:rPr>
              <a:t>Consensus Model for APRN Regulation: </a:t>
            </a:r>
            <a:r>
              <a:rPr b="0" lang="en-US" sz="44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20480" y="5638680"/>
            <a:ext cx="1046484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Presentation for Constituent Member Associations of the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American Nurses Association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October 2009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045280" y="11934720"/>
            <a:ext cx="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997360" y="7543800"/>
            <a:ext cx="6324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Lisa Summers, CNM, DrP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ANA Department of Nursing Practice &amp;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reparation in a specialty area is optional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education and practice build upon and are in addition to the education and practice of the APRN role and population focus. 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pecialty practice may focus on specific patient populations or health care need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Examples:  a FNP could specialize in nephrology; an Adult-Gero CNS could specialize in palliative care; a CRNA could specialize in pain management; a CNM could specialize in care of post-menopausal women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APRN Specialties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defining a specialty is built on ANA Criteria for Recognition as a Nursing Specialty (2004)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cation in the specialty area is strong recommended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State boards will not regulate the APRN at the level of specialties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Content Placeholder 5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1066680" y="1600200"/>
            <a:ext cx="110746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Emergence of New APRN Roles and 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Population Foci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areful consideration of new APRN roles or population-foci is in the best interest of the profession.”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haracteristics of the process to be used to develop a new role or focus are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riteria for recognition of a new APRN role are also spelled out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4640" y="914040"/>
            <a:ext cx="1167912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Relationship between Educational Competencies,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Gill Sans"/>
              </a:rPr>
              <a:t>Licensure and Certifi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90" name="Line 3"/>
          <p:cNvSpPr/>
          <p:nvPr/>
        </p:nvSpPr>
        <p:spPr>
          <a:xfrm flipV="1">
            <a:off x="3985560" y="2917440"/>
            <a:ext cx="2650680" cy="482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6610320" y="2925720"/>
            <a:ext cx="281772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3902040" y="7802640"/>
            <a:ext cx="552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4659480" y="671976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966640" y="7078680"/>
            <a:ext cx="1077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APR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068880" y="5886360"/>
            <a:ext cx="11192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Rol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5527800" y="4768920"/>
            <a:ext cx="20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5202360" y="57434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763960" y="4172040"/>
            <a:ext cx="1580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Specialty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9356040" y="4767840"/>
            <a:ext cx="36000" cy="29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7694640" y="476892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758880" y="2058840"/>
            <a:ext cx="303696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8669160" y="3597120"/>
            <a:ext cx="3035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ty Certification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9761040" y="5164200"/>
            <a:ext cx="249804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censure: based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 Edu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certification**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66880" y="2925720"/>
            <a:ext cx="32511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dentified by Professional Organiz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e.g. oncology, palliative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re, CV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045120" y="2058840"/>
            <a:ext cx="695952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Measures of competenc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961200" y="4840200"/>
            <a:ext cx="32173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NP, CRNA, CNM, CNS 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pulation contex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835560" y="6626160"/>
            <a:ext cx="291384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PRN Core Courses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tho/phys,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armacology,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hysical/health ass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6610320" y="2925720"/>
            <a:ext cx="19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8561520" y="2925720"/>
            <a:ext cx="0" cy="18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5364360" y="4962600"/>
            <a:ext cx="2519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ill Sans"/>
              </a:rPr>
              <a:t>Population Foci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Target date for full implementation and all recommendations:  2015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will occur increment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Certain recommendations will be implemented sequentially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Expectations for each of the four prongs are enumerated in the document.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72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oards of nursing will: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Be solely responsible for licensing APRN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Only license graduates of accredited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quire successful completion of national certification exam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Not issue a temporary licen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Licensure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2209320"/>
            <a:ext cx="119635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icense APRNs as independent practitioners with no regulatory requirements for collaboration, direction or supervision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Allow for mutual recognition through the APRN Compact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ave at least 1 APRN on board and utilize APRN advisory committee that includes representatives of all 4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nstitute a grandfathering clause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ccredit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ccreditor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valuate graduate degree and post-graduate certification APRN program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programs in light of core, role and population competencie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Review developing programs for pre-approval, pre-accreditation, or accreditation prior to student enrollment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nclude an APRN on site visiting team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Monitor APRN programs throughout the accreditation period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testing and psychometrically sound, legally defensible standard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APRN core and role competencies across at least one  population focu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ssess specialty competencies separately, if appropriat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 by a national certification accreditation body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1160" y="113148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57"/>
                </a:solidFill>
                <a:latin typeface="Gill Sans"/>
              </a:rPr>
              <a:t>Overview</a:t>
            </a:r>
            <a:endParaRPr b="0" lang="en-US" sz="66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87320" y="2666520"/>
            <a:ext cx="10847520" cy="586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How was the Consensus Model for APRN Regulation developed?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are the plans for implementation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What tools are available to help members and policy makers understand the model?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Certification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Certifi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force congruence between the education program and the type of certification.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rovide a mechanism to ensure ongoing competence and certification maintenan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Participate in a mutually agreeable mechanism to ensure communication and transparency with boards of nursing and schools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Implementation strategies: </a:t>
            </a: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Educatio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78660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ducation programs will: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Follow established educational standards and ensure attainment of core, role and population competenci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accredited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Be pre-approved, pre-accredited, or accredited prior to accepting student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graduates are eligible for national certification and state licensur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786600" indent="-52776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Ensure that the transcript specifies the role and population focu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Creating the LACE Structure and Process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he report outlines principles to guide the formulation of the LACE structure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 should include all 4 entities of LAC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It’s size should allow effective discussion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spcBef>
                <a:spcPts val="3200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Structure should not be duplicative of existing structures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actively involved in ongoing discussions regarding how best to implement this.  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70c0"/>
                </a:solidFill>
                <a:latin typeface="Gill Sans"/>
              </a:rPr>
              <a:t>ANA’s role moving forward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1196352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ANA is committed to work with our constituents, the nursing community, and the broad stakeholder community to achieve the successful and timely implementation of the Consensus Model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Toolkit is available on the web site.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nursingworld.org/EspeciallyForYou/AdvancedPracticeNurses/Consensus-Model-Toolkit.aspx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7"/>
                </a:solidFill>
                <a:latin typeface="Gill Sans"/>
              </a:rPr>
              <a:t>What are your questions and needs?</a:t>
            </a:r>
            <a:endParaRPr b="0" lang="en-US" sz="30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3657600" y="723096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9600" y="2285640"/>
            <a:ext cx="1105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a7aaab"/>
                </a:solidFill>
                <a:latin typeface="Gill Sans"/>
              </a:rPr>
              <a:t>Thank you.</a:t>
            </a:r>
            <a:br>
              <a:rPr sz="5400"/>
            </a:br>
            <a:br>
              <a:rPr sz="5400"/>
            </a:br>
            <a:r>
              <a:rPr b="0" i="1" lang="en-US" sz="5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Lisa.Summers@ana.org</a:t>
            </a: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301-628-5058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a7aaab"/>
                </a:solidFill>
                <a:latin typeface="Gill Sans"/>
              </a:rPr>
              <a:t>www.nursingworld.org</a:t>
            </a:r>
            <a:endParaRPr b="0" lang="en-US" sz="5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drove development of the Model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8720" y="2819160"/>
            <a:ext cx="1196352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definitions for APRN rol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standardization in APRN education program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Proliferation of specialties and subspecialties,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Palliative Care NP, Cardiovascular CNS, Homeland Security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Lack of common legal recognition across jurisdictions </a:t>
            </a: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e.g. Less than 30 states recognize or title protect CNS; not all states license/authorize CRNA same as NP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How was the Model developed?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77040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Multi-year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Ultimately involved 73 organiza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77040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Basic assumption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The ultimate goal is to promote patient safety and public protection.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Recommendations must address current issues facing the APRN community 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-51696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7"/>
                </a:solidFill>
                <a:latin typeface="Gill Sans"/>
              </a:rPr>
              <a:t>Goal must be forward looking and do no harm</a:t>
            </a:r>
            <a:endParaRPr b="0" lang="en-US" sz="28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192680" indent="0">
              <a:lnSpc>
                <a:spcPct val="80000"/>
              </a:lnSpc>
              <a:spcBef>
                <a:spcPts val="38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1160" y="1131840"/>
            <a:ext cx="10464840" cy="11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i="1" lang="en-US" sz="6000" spc="-1" strike="noStrike">
                <a:solidFill>
                  <a:srgbClr val="000057"/>
                </a:solidFill>
                <a:latin typeface="Gill Sans"/>
              </a:rPr>
              <a:t>ANA’s role</a:t>
            </a:r>
            <a:endParaRPr b="0" lang="en-US" sz="60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86960" y="2437920"/>
            <a:ext cx="11658600" cy="63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APRN Consensus Model Work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Hosted 4 national APRN Stakeholder meetings at ANA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ctive role on Joint Dialogue Group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was one of the first national organizations to endorse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57"/>
                </a:solidFill>
                <a:latin typeface="Gill Sans"/>
              </a:rPr>
              <a:t>ANA continues an active role in LACE process</a:t>
            </a:r>
            <a:endParaRPr b="0" lang="en-US" sz="37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9960" y="1295280"/>
            <a:ext cx="114300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What are the key components of the model?</a:t>
            </a:r>
            <a:br>
              <a:rPr sz="4400"/>
            </a:b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904760"/>
            <a:ext cx="11963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Definition of an APRN 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Four essential elements of APRN Regulation (LACE)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lvl="1" marL="12556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57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Licensure, Accreditation, Certification,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Relevance of APRN specialt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8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 </a:t>
            </a:r>
            <a:r>
              <a:rPr b="0" lang="en-US" sz="3600" spc="-1" strike="noStrike">
                <a:solidFill>
                  <a:srgbClr val="000057"/>
                </a:solidFill>
                <a:latin typeface="Gill Sans"/>
              </a:rPr>
              <a:t>Implementation strategies</a:t>
            </a:r>
            <a:endParaRPr b="0" lang="en-US" sz="36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2361960"/>
            <a:ext cx="11963520" cy="601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completed graduate education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Passed a national certification examination and maintains continued competence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cquired advanced clinical knowledge and skills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se practice builds on RN competenci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definition of an APRN cont.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0">
              <a:lnSpc>
                <a:spcPct val="9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An APRN is a nurse: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is educationally prepared to assume responsibility and accountability for assessment, diagnosis, and management of patient problems, including prescription of pharmacologic and non-pharmacologic intervention . 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sufficient clinical experience to reflect the intended license.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Who has obtained a license to practice in one of the 4 APRN roles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9960" y="106632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Key components of the model:</a:t>
            </a:r>
            <a:br>
              <a:rPr sz="4400"/>
            </a:br>
            <a:r>
              <a:rPr b="0" i="1" lang="en-US" sz="4400" spc="-1" strike="noStrike">
                <a:solidFill>
                  <a:srgbClr val="000057"/>
                </a:solidFill>
                <a:latin typeface="Gill Sans"/>
              </a:rPr>
              <a:t>Four APRN roles</a:t>
            </a:r>
            <a:endParaRPr b="0" lang="en-US" sz="4400" spc="-1" strike="noStrike">
              <a:solidFill>
                <a:srgbClr val="000057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2400" y="2438280"/>
            <a:ext cx="11963160" cy="601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Registered Nurse Anesthetist (CRNA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-Midwife (CNM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linical Nurse Specialist (CNS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  <a:p>
            <a:pPr marL="811080" indent="-544320">
              <a:lnSpc>
                <a:spcPct val="90000"/>
              </a:lnSpc>
              <a:spcBef>
                <a:spcPts val="3801"/>
              </a:spcBef>
              <a:buClr>
                <a:srgbClr val="000057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7"/>
                </a:solidFill>
                <a:latin typeface="Gill Sans"/>
              </a:rPr>
              <a:t>Certified Nurse Practitioner (CNP)</a:t>
            </a:r>
            <a:endParaRPr b="0" lang="en-US" sz="3200" spc="-1" strike="noStrike">
              <a:solidFill>
                <a:srgbClr val="000057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trice.Franklin</cp:lastModifiedBy>
  <dcterms:modified xsi:type="dcterms:W3CDTF">2010-07-14T19:12:02Z</dcterms:modified>
  <cp:revision>516</cp:revision>
  <dc:subject>PowerPoint Templates</dc:subject>
  <dc:title>Standard Presentation</dc:title>
</cp:coreProperties>
</file>