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move the slide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835F-27A1-4B3B-B9BD-545442A8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32C-E453-4235-8EF4-2C507F562D1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0F18-F7C9-42D2-A1C9-B333ED5FD7E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4FDB-EEDB-4396-B77E-8D1327070A7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BAAA-9F85-4C43-B9FD-1E190E27765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1C06-2BFD-44AA-84C8-9A14D987649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D31-E2E4-4390-8AA9-7F688E07A4D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92E-A354-43B5-88F0-487774689DD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lease refer to the ANA Talking Points regarding the Nurse Interstate Licensure Compact, available on the AMA websi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://www.nursingworld.org/Login.aspx?ReturnUrl=%2fMainMenuCategories%2fANAPoliticalPower%2fState%2fIssuesResources%2fLicensureCompact.asp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1E0-C657-4629-BACC-20B11682751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DE8-140F-4FAA-A9B5-2E89D6EAC72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certification program should be nationally accredited by the American Board of Nursing Specialities (ABNS) or the National Commission for Certifying Agencies (NCCA)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7854-E8A8-4E6F-8049-41ABC3C935E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9A8-CF03-48C5-B315-41822F83EF6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93A-0133-452D-9B69-48CA077B900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ograms must be accredited by a nursing accrediting organization that is recognized by the US Department of Education and/or the Commission on Collegiate Nursing Education (CHEA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3D1-1E8E-4905-B0B7-FC5FA07AD46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EF4-61F1-4CC5-BA33-A0C0B7F948B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20D-38AC-4212-BB62-897F4F75F19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70A-6F03-4F73-A123-D0DF51F9082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threat of elimination of the CNS role and education programs was particularly important in driving development of the model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93AC-E975-4DA6-9A6D-6FB9C2C954A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 those interested in more details on the history , the work of the NCSBN APRN Committee, the APRN Consensus Group, and the APRN Joint Dialogue Group are all described on pages 16 through 19 of the repor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67BD-5A07-42CA-9831-B9E0DD5CDD7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APRN Consensus Model Toolkit on the ANA web site includes articles from ANA publications describing ANA’s rol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B89-D238-4008-9B47-62B55CA2235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4F1-FC2A-4601-9B21-CC0C27801E5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85FC-C5A2-488C-9EE6-AC6D5DF100C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E7E5-9798-469B-91F0-8B6B9BA123E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itions of each role are included on pages 7 to 8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1160" y="1639800"/>
            <a:ext cx="10464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71160" y="503064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92520" indent="-92520" algn="ctr">
              <a:buClr>
                <a:srgbClr val="000057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92520" indent="-92520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92520" indent="-92520" algn="ctr">
              <a:buClr>
                <a:srgbClr val="a7aaab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92520" indent="-92520" algn="ctr">
              <a:buClr>
                <a:srgbClr val="a7aaab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79640" y="486252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7116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111564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150264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188928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2275920" indent="-4957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470480" y="2757600"/>
            <a:ext cx="7277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8400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1" marL="108432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2" marL="1485720" indent="-4456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3" marL="18828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4" marL="22842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5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6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ursingworld.org/EspeciallyForYou/AdvancedPracticeNurses/Consensus-Model-Toolkit.aspx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Lisa.Summers@ana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676520"/>
            <a:ext cx="1224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7"/>
                </a:solidFill>
                <a:latin typeface="Gill Sans"/>
              </a:rPr>
              <a:t>Consensus Model for APRN Regulation: </a:t>
            </a:r>
            <a:r>
              <a:rPr b="0" lang="en-US" sz="44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20480" y="563868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Presentation for Constituent Member Associations of the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American Nurses Association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October 2009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045280" y="11934720"/>
            <a:ext cx="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997360" y="7543800"/>
            <a:ext cx="632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Lisa Summers, CNM, DrP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ANA Department of Nursing Practice &amp;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reparation in a specialty area is optional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education and practice build upon and are in addition to the education and practice of the APRN role and population focus. 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practice may focus on specific patient populations or health care need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Examples:  a FNP could specialize in nephrology; an Adult-Gero CNS could specialize in palliative care; a CRNA could specialize in pain management; a CNM could specialize in care of post-menopausal women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defining a specialty is built on ANA Criteria for Recognition as a Nursing Specialty (2004)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cation in the specialty area is strong recommended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tate boards will not regulate the APRN at the level of specialtie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5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1066680" y="1600200"/>
            <a:ext cx="110746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Emergence of New APRN Roles and 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Population Foci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areful consideration of new APRN roles or population-foci is in the best interest of the profession.”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haracteristics of the process to be used to develop a new role or focus are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recognition of a new APRN role are also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914040"/>
            <a:ext cx="11679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Relationship between Educational Competencies,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Licensure and Certifi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3985560" y="2917440"/>
            <a:ext cx="2650680" cy="48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610320" y="2925720"/>
            <a:ext cx="281772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902040" y="7802640"/>
            <a:ext cx="552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4659480" y="671976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66640" y="7078680"/>
            <a:ext cx="1077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APR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68880" y="5886360"/>
            <a:ext cx="1119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Rol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527800" y="47689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202360" y="57434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763960" y="4172040"/>
            <a:ext cx="1580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Specialty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9356040" y="4767840"/>
            <a:ext cx="36000" cy="29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7694640" y="476892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758880" y="2058840"/>
            <a:ext cx="30369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8669160" y="3597120"/>
            <a:ext cx="3035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ty Certification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9761040" y="5164200"/>
            <a:ext cx="249804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censure: based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certification**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66880" y="2925720"/>
            <a:ext cx="32511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dentified by Professional Organiz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e.g. oncology, palliative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re, CV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045120" y="2058840"/>
            <a:ext cx="69595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Measures of 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61200" y="4840200"/>
            <a:ext cx="3217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NP, CRNA, CNM, CNS 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ulation con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835560" y="6626160"/>
            <a:ext cx="291384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RN Core Courses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ho/phys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armacology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ysical/health ass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6610320" y="29257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8561520" y="292572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5364360" y="4962600"/>
            <a:ext cx="2519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Population Foci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Target date for full implementation and all recommendations:  2015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will occur increment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Certain recommendations will be implemented sequenti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Expectations for each of the four prongs are enumerated in the document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72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oards of nursing will: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e solely responsible for licensing APRN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Only license graduates of accredited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quire successful completion of national certification exam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Not issue a temporary licen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icense APRNs as independent practitioners with no regulatory requirements for collaboration, direction or supervision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Allow for mutual recognition through the APRN Compact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ave at least 1 APRN on board and utilize APRN advisory committee that includes representatives of all 4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nstitute a grandfathering clau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ccredit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ccreditor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valuate graduate degree and post-graduate certification APRN program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programs in light of core, role and population competencie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Review developing programs for pre-approval, pre-accreditation, or accreditation prior to student enrollment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nclude an APRN on site visiting team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Monitor APRN programs throughout the accreditation period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testing and psychometrically sound, legally defensible standard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core and role competencies across at least one  population focu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specialty competencies separately, if appropriat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 by a national certification accreditation body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57"/>
                </a:solidFill>
                <a:latin typeface="Gill Sans"/>
              </a:rPr>
              <a:t>Overview</a:t>
            </a:r>
            <a:endParaRPr b="0" lang="en-US" sz="66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666520"/>
            <a:ext cx="108475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ow was the Consensus Model for APRN Regulation developed?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tools are available to help members and policy makers understand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force congruence between the education program and the type of certification.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rovide a mechanism to ensure ongoing competence and certification maintenan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articipate in a mutually agreeable mechanism to ensure communication and transparency with boards of nursing and school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7866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du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educational standards and ensure attainment of core, role and population competenci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pre-approved, pre-accredited, or accredited prior to accepting student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graduates are eligible for national certification and state licensur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the transcript specifies the role and population focu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Creating the LACE Structure and Process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he report outlines principles to guide the formulation of the LACE structur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 should include all 4 entities of LA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’s size should allow effective discussion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Structure should not be duplicative of existing structur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actively involved in ongoing discussions regarding how best to implement this. 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NA’s role moving forward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committed to work with our constituents, the nursing community, and the broad stakeholder community to achieve the successful and timely implementation of the Consensus Model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oolkit is available on the web sit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nursingworld.org/EspeciallyForYou/AdvancedPracticeNurses/Consensus-Model-Toolkit.aspx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What are your questions and needs?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657600" y="72309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9600" y="2285640"/>
            <a:ext cx="1105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a7aaab"/>
                </a:solidFill>
                <a:latin typeface="Gill Sans"/>
              </a:rPr>
              <a:t>Thank you.</a:t>
            </a:r>
            <a:br>
              <a:rPr sz="5400"/>
            </a:br>
            <a:br>
              <a:rPr sz="5400"/>
            </a:br>
            <a:r>
              <a:rPr b="0" i="1" lang="en-US" sz="5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Lisa.Summers@ana.org</a:t>
            </a: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301-628-5058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www.nursingworld.org</a:t>
            </a:r>
            <a:endParaRPr b="0" lang="en-US" sz="5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8720" y="2819160"/>
            <a:ext cx="1196352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definitions for APRN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standardization in APRN education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Proliferation of specialties and subspecialties,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Palliative Care NP, Cardiovascular CNS, Homeland Security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legal recognition across jurisdictions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Less than 30 states recognize or title protect CNS; not all states license/authorize CRNA same as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How was the Model developed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Multi-year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Ultimately involved 73 organiza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Basic assump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The ultimate goal is to promote patient safety and public protection.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Recommendations must address current issues facing the APRN community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Goal must be forward looking and do no harm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ANA’s role</a:t>
            </a:r>
            <a:endParaRPr b="0" lang="en-US" sz="6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APRN Consensus Model Work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Hosted 4 national APRN Stakeholder meetings at ANA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Joint Dialogue 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was one of the first national organizations to endorse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continues an active role in LACE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Definition of an APRN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Four essential elements of APRN Regulation (LACE)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2556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levance of APRN specialt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strateg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2361960"/>
            <a:ext cx="11963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completed graduate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assed a national certification examination and maintains continued competence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cquired advanced clinical knowledge and skills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se practice builds on RN competenci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is educationally prepared to assume responsibility and accountability for assessment, diagnosis, and management of patient problems, including prescription of pharmacologic and non-pharmacologic intervention .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sufficient clinical experience to reflect the intended license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obtained a license to practice in one of the 4 APRN rol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Four APRN rol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Registered Nurse Anesthetist (CRNA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-Midwife (CNM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linical Nurse Specialist (CNS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 Practitioner (CNP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trice.Franklin</cp:lastModifiedBy>
  <dcterms:modified xsi:type="dcterms:W3CDTF">2010-07-14T19:12:02Z</dcterms:modified>
  <cp:revision>516</cp:revision>
  <dc:subject>PowerPoint Templates</dc:subject>
  <dc:title>Standard Presentation</dc:title>
</cp:coreProperties>
</file>